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4.jpeg" ContentType="image/jpeg"/>
  <Override PartName="/ppt/media/image31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12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9.png" ContentType="image/png"/>
  <Override PartName="/ppt/media/image1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BB9E-0080-4DC3-84EB-0D11C31E0E3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D595-FAFE-458C-9C88-18B82896D72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4C66-A9D9-4EC9-9AC5-521EA08E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6321-3E01-435E-8D24-F51F7E8F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359D-9D8E-4D37-A445-C58FD462B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4C6E-A5E3-42EC-8214-F3DDB4198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38BA-D78F-449A-9599-FA879EC3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EB76-752B-49CB-A4A2-378A1BEA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CE63-CE0F-439D-A14C-BA78AC2A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92E0-46DD-4FB2-AB65-CE1C7193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8BE6-9BC4-4100-A5B3-600A2999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AE8F-D541-4E2A-9574-80D735D0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1B9B-8668-4A8E-9414-517A4B0E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59E8-6565-47DF-B298-605BD156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7619-15DF-4814-8BDC-F7FCB92784AE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.png"/><Relationship Id="rId3" Type="http://schemas.openxmlformats.org/officeDocument/2006/relationships/image" Target="../media/image2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5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iagram 6" descr=""/>
          <p:cNvPicPr/>
          <p:nvPr/>
        </p:nvPicPr>
        <p:blipFill>
          <a:blip r:embed="rId1"/>
          <a:stretch/>
        </p:blipFill>
        <p:spPr>
          <a:xfrm>
            <a:off x="1974960" y="1981080"/>
            <a:ext cx="6565680" cy="2462400"/>
          </a:xfrm>
          <a:prstGeom prst="rect">
            <a:avLst/>
          </a:prstGeom>
          <a:ln w="0">
            <a:noFill/>
          </a:ln>
        </p:spPr>
      </p:pic>
      <p:sp>
        <p:nvSpPr>
          <p:cNvPr id="49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FB0B-DCE3-4E32-B636-56A044107829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</a:rPr>
              <a:t>KOMUNIKOWANIE SI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rostokąt 9"/>
          <p:cNvSpPr/>
          <p:nvPr/>
        </p:nvSpPr>
        <p:spPr>
          <a:xfrm>
            <a:off x="7502400" y="-74520"/>
            <a:ext cx="22860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Diagram 10" descr=""/>
          <p:cNvPicPr/>
          <p:nvPr/>
        </p:nvPicPr>
        <p:blipFill>
          <a:blip r:embed="rId2"/>
          <a:stretch/>
        </p:blipFill>
        <p:spPr>
          <a:xfrm>
            <a:off x="1841400" y="1981080"/>
            <a:ext cx="6589800" cy="2487600"/>
          </a:xfrm>
          <a:prstGeom prst="rect">
            <a:avLst/>
          </a:prstGeom>
          <a:ln w="0">
            <a:noFill/>
          </a:ln>
        </p:spPr>
      </p:pic>
      <p:pic>
        <p:nvPicPr>
          <p:cNvPr id="53" name="Diagram 11" descr=""/>
          <p:cNvPicPr/>
          <p:nvPr/>
        </p:nvPicPr>
        <p:blipFill>
          <a:blip r:embed="rId3"/>
          <a:stretch/>
        </p:blipFill>
        <p:spPr>
          <a:xfrm>
            <a:off x="542880" y="1968480"/>
            <a:ext cx="1073160" cy="781200"/>
          </a:xfrm>
          <a:prstGeom prst="rect">
            <a:avLst/>
          </a:prstGeom>
          <a:ln w="0">
            <a:noFill/>
          </a:ln>
        </p:spPr>
      </p:pic>
      <p:pic>
        <p:nvPicPr>
          <p:cNvPr id="54" name="Obraz 8" descr="naglowek_obowiazujacy_usw kolor"/>
          <p:cNvPicPr/>
          <p:nvPr/>
        </p:nvPicPr>
        <p:blipFill>
          <a:blip r:embed="rId4"/>
          <a:stretch/>
        </p:blipFill>
        <p:spPr>
          <a:xfrm>
            <a:off x="1071720" y="5742000"/>
            <a:ext cx="7135560" cy="11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ole tekstowe 7"/>
          <p:cNvSpPr/>
          <p:nvPr/>
        </p:nvSpPr>
        <p:spPr>
          <a:xfrm>
            <a:off x="539640" y="476280"/>
            <a:ext cx="748836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Konflikty strukturalne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chodzą, gdy strony konfliktu odczuwają niesprawiedliwość z powodu nierównego układu sił lub wpływów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społeczeństw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539640" y="2781360"/>
            <a:ext cx="3181320" cy="2638440"/>
          </a:xfrm>
          <a:prstGeom prst="rect">
            <a:avLst/>
          </a:prstGeom>
          <a:ln w="0">
            <a:noFill/>
          </a:ln>
        </p:spPr>
      </p:pic>
      <p:sp>
        <p:nvSpPr>
          <p:cNvPr id="155" name="pole tekstowe 8"/>
          <p:cNvSpPr/>
          <p:nvPr/>
        </p:nvSpPr>
        <p:spPr>
          <a:xfrm>
            <a:off x="3564000" y="2708280"/>
            <a:ext cx="468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wodami takich konfliktów zwykle s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równy rozkład si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mieszczenie przestrzen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óżne role społecz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57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egatywne skutki konfliktów</a:t>
            </a:r>
            <a:endParaRPr b="0" lang="en-US" sz="3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6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2967120" cy="2448000"/>
          </a:xfrm>
          <a:prstGeom prst="rect">
            <a:avLst/>
          </a:prstGeom>
          <a:ln w="0">
            <a:noFill/>
          </a:ln>
        </p:spPr>
      </p:pic>
      <p:sp>
        <p:nvSpPr>
          <p:cNvPr id="164" name="pole tekstowe 7"/>
          <p:cNvSpPr/>
          <p:nvPr/>
        </p:nvSpPr>
        <p:spPr>
          <a:xfrm>
            <a:off x="2725560" y="4005360"/>
            <a:ext cx="53726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res, negatywne emocje, złe samopoczuci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eznaczanie zasobów na konflikt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łe funkcjonowanie grupy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brona starych zasad i stereotypó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66" name="pole tekstowe 9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Obraz 10" descr="sowa_1-komunikowanie sie.png"/>
            <p:cNvPicPr/>
            <p:nvPr/>
          </p:nvPicPr>
          <p:blipFill>
            <a:blip r:embed="rId7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zytywne skutki konfliktów (rozwiązania konfliktu)</a:t>
            </a:r>
            <a:endParaRPr b="0" lang="en-US" sz="25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6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4427640" y="1268280"/>
            <a:ext cx="3546360" cy="2376720"/>
          </a:xfrm>
          <a:prstGeom prst="rect">
            <a:avLst/>
          </a:prstGeom>
          <a:ln w="0">
            <a:noFill/>
          </a:ln>
        </p:spPr>
      </p:pic>
      <p:sp>
        <p:nvSpPr>
          <p:cNvPr id="173" name="pole tekstowe 7"/>
          <p:cNvSpPr/>
          <p:nvPr/>
        </p:nvSpPr>
        <p:spPr>
          <a:xfrm>
            <a:off x="701280" y="2565360"/>
            <a:ext cx="7306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czucie sprawiedliwośc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zrost motywacj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nnowacyjność i rozwój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głębianie wiedzy zarówno na swój temat, jak i na temat partner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większenie spójności grup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bniżenie napię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75" name="pole tekstowe 9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Obraz 10" descr="sowa_1-komunikowanie sie.png"/>
            <p:cNvPicPr/>
            <p:nvPr/>
          </p:nvPicPr>
          <p:blipFill>
            <a:blip r:embed="rId9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5508720" y="4653000"/>
            <a:ext cx="2381040" cy="19717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wiązywanie konfliktów</a:t>
            </a:r>
            <a:endParaRPr b="0" lang="en-US" sz="3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7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0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ole tekstowe 6"/>
          <p:cNvSpPr/>
          <p:nvPr/>
        </p:nvSpPr>
        <p:spPr>
          <a:xfrm>
            <a:off x="324000" y="1268280"/>
            <a:ext cx="7848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radycyjny sposób rozwiązywania konfliktów wiąże się zwykle z próbą  przekonania jednej strony do argumentów i opinii innej strony (czasem za wszelką cenę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aki sposób podejścia do rozwiązywania konfliktów wiąże się nierozłącznie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powstawaniem schematu wygrany – przegran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tym schemacie jedna ze stron odnosi sukces, wygrywa konflikt, natomiast druga strona ponosi porażkę i przegrywa konfli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założenia prowadzi to do sytuacji, w której jedna strona jest zadowolona, natomiast druga pozostaje nieusatysfakcjonowana ze sposobu rozwiązania konflik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3"/>
          <a:stretch/>
        </p:blipFill>
        <p:spPr>
          <a:xfrm>
            <a:off x="3203640" y="2205000"/>
            <a:ext cx="2135160" cy="1152720"/>
          </a:xfrm>
          <a:prstGeom prst="rect">
            <a:avLst/>
          </a:prstGeom>
          <a:ln w="0">
            <a:noFill/>
          </a:ln>
        </p:spPr>
      </p:pic>
      <p:grpSp>
        <p:nvGrpSpPr>
          <p:cNvPr id="184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85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Obraz 10" descr="sowa_1-komunikowanie sie.png"/>
            <p:cNvPicPr/>
            <p:nvPr/>
          </p:nvPicPr>
          <p:blipFill>
            <a:blip r:embed="rId4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chemat </a:t>
            </a:r>
            <a:r>
              <a:rPr b="1" lang="pl-PL" sz="25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wygrany – przegrany </a:t>
            </a:r>
            <a:r>
              <a:rPr b="1" lang="pl-PL" sz="2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wstaje, gdy rozwiązujemy konflikt następującymi metodami:</a:t>
            </a:r>
            <a:endParaRPr b="0" lang="en-US" sz="25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8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upa 16"/>
          <p:cNvGrpSpPr/>
          <p:nvPr/>
        </p:nvGrpSpPr>
        <p:grpSpPr>
          <a:xfrm>
            <a:off x="539640" y="1557360"/>
            <a:ext cx="7488360" cy="1217520"/>
            <a:chOff x="539640" y="1557360"/>
            <a:chExt cx="7488360" cy="1217520"/>
          </a:xfrm>
        </p:grpSpPr>
        <p:sp>
          <p:nvSpPr>
            <p:cNvPr id="192" name="Dowolny kształt 8"/>
            <p:cNvSpPr/>
            <p:nvPr/>
          </p:nvSpPr>
          <p:spPr>
            <a:xfrm>
              <a:off x="539640" y="1557360"/>
              <a:ext cx="7488360" cy="581040"/>
            </a:xfrm>
            <a:prstGeom prst="pie">
              <a:avLst/>
            </a:prstGeom>
            <a:solidFill>
              <a:srgbClr val="9bbb5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3480" rIns="123480" tIns="123480" bIns="123480" anchor="ctr">
              <a:noAutofit/>
            </a:bodyPr>
            <a:p>
              <a:pPr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Ucieczka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Dowolny kształt 9"/>
            <p:cNvSpPr/>
            <p:nvPr/>
          </p:nvSpPr>
          <p:spPr>
            <a:xfrm>
              <a:off x="539640" y="2138400"/>
              <a:ext cx="7488360" cy="636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7600" rIns="156600" tIns="28080" bIns="28080" anchor="t">
              <a:noAutofit/>
            </a:bodyPr>
            <a:p>
              <a:pPr lvl="1" marL="228600" indent="-228600" algn="just">
                <a:lnSpc>
                  <a:spcPct val="90000"/>
                </a:lnSpc>
                <a:spcAft>
                  <a:spcPts val="550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Głównie reakcja obronna, czekanie, aż konflikt rozwiąże się sam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upa 17"/>
          <p:cNvGrpSpPr/>
          <p:nvPr/>
        </p:nvGrpSpPr>
        <p:grpSpPr>
          <a:xfrm>
            <a:off x="539640" y="2774880"/>
            <a:ext cx="7488360" cy="1217520"/>
            <a:chOff x="539640" y="2774880"/>
            <a:chExt cx="7488360" cy="1217520"/>
          </a:xfrm>
        </p:grpSpPr>
        <p:sp>
          <p:nvSpPr>
            <p:cNvPr id="195" name="Dowolny kształt 10"/>
            <p:cNvSpPr/>
            <p:nvPr/>
          </p:nvSpPr>
          <p:spPr>
            <a:xfrm>
              <a:off x="539640" y="2774880"/>
              <a:ext cx="7488360" cy="581040"/>
            </a:xfrm>
            <a:prstGeom prst="pie">
              <a:avLst/>
            </a:prstGeom>
            <a:solidFill>
              <a:srgbClr val="5eafa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3480" rIns="123480" tIns="123480" bIns="123480" anchor="ctr">
              <a:noAutofit/>
            </a:bodyPr>
            <a:p>
              <a:pPr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ymuszani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Dowolny kształt 11"/>
            <p:cNvSpPr/>
            <p:nvPr/>
          </p:nvSpPr>
          <p:spPr>
            <a:xfrm>
              <a:off x="539640" y="3355920"/>
              <a:ext cx="7488360" cy="636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7600" rIns="156600" tIns="28080" bIns="28080" anchor="t">
              <a:noAutofit/>
            </a:bodyPr>
            <a:p>
              <a:pPr lvl="1" marL="228600" indent="-228600" algn="just">
                <a:lnSpc>
                  <a:spcPct val="90000"/>
                </a:lnSpc>
                <a:spcAft>
                  <a:spcPts val="550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edna ze stron, korzystając ze swojej siły, wymusza/narzuca określone rozwiązani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upa 18"/>
          <p:cNvGrpSpPr/>
          <p:nvPr/>
        </p:nvGrpSpPr>
        <p:grpSpPr>
          <a:xfrm>
            <a:off x="539640" y="3992400"/>
            <a:ext cx="7488360" cy="2100600"/>
            <a:chOff x="539640" y="3992400"/>
            <a:chExt cx="7488360" cy="2100600"/>
          </a:xfrm>
        </p:grpSpPr>
        <p:sp>
          <p:nvSpPr>
            <p:cNvPr id="198" name="Dowolny kształt 12"/>
            <p:cNvSpPr/>
            <p:nvPr/>
          </p:nvSpPr>
          <p:spPr>
            <a:xfrm>
              <a:off x="539640" y="3992400"/>
              <a:ext cx="7488360" cy="581040"/>
            </a:xfrm>
            <a:prstGeom prst="pie">
              <a:avLst/>
            </a:prstGeom>
            <a:solidFill>
              <a:srgbClr val="8064a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3480" rIns="123480" tIns="123480" bIns="123480" anchor="ctr">
              <a:noAutofit/>
            </a:bodyPr>
            <a:p>
              <a:pPr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Kompromi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Dowolny kształt 14"/>
            <p:cNvSpPr/>
            <p:nvPr/>
          </p:nvSpPr>
          <p:spPr>
            <a:xfrm>
              <a:off x="539640" y="4573440"/>
              <a:ext cx="7488360" cy="1519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7600" rIns="156600" tIns="28080" bIns="28080" anchor="t">
              <a:noAutofit/>
            </a:bodyPr>
            <a:p>
              <a:pPr lvl="1" marL="228600" indent="-228600" algn="just">
                <a:lnSpc>
                  <a:spcPct val="90000"/>
                </a:lnSpc>
                <a:spcAft>
                  <a:spcPts val="550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lega przede wszystkim na nakłanianiu stron do wzajemnych ustępstw, czyli rezygnacji ze swoich postulatów. Jednak gdy ustępstwa takie w odczuciu uczestników są zbyt duże, to rozwiązanie problemu odsuwa się tylko w czasi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01" name="pole tekstowe 17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2" name="Obraz 10" descr="sowa_1-komunikowanie sie.png"/>
            <p:cNvPicPr/>
            <p:nvPr/>
          </p:nvPicPr>
          <p:blipFill>
            <a:blip r:embed="rId2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395280" y="3284640"/>
            <a:ext cx="2612880" cy="2828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"/>
          <p:cNvPicPr/>
          <p:nvPr/>
        </p:nvPicPr>
        <p:blipFill>
          <a:blip r:embed="rId2"/>
          <a:stretch/>
        </p:blipFill>
        <p:spPr>
          <a:xfrm>
            <a:off x="5940360" y="333360"/>
            <a:ext cx="2286000" cy="2666880"/>
          </a:xfrm>
          <a:prstGeom prst="rect">
            <a:avLst/>
          </a:prstGeom>
          <a:ln w="0">
            <a:noFill/>
          </a:ln>
        </p:spPr>
      </p:pic>
      <p:grpSp>
        <p:nvGrpSpPr>
          <p:cNvPr id="205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6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pole tekstowe 7"/>
          <p:cNvSpPr/>
          <p:nvPr/>
        </p:nvSpPr>
        <p:spPr>
          <a:xfrm>
            <a:off x="324000" y="333360"/>
            <a:ext cx="5400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Zwycięzca: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rona, która wygrała konflikt, odnosząc zwycięstwo nad stroną przeciwn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ole tekstowe 8"/>
          <p:cNvSpPr/>
          <p:nvPr/>
        </p:nvSpPr>
        <p:spPr>
          <a:xfrm>
            <a:off x="324000" y="1052640"/>
            <a:ext cx="648000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aka postawa może wiązać się z następującymi cechami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c21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czucie zwycięstw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c21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soka samoocen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c21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ejmowanie decyzji bez uzgodnie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ole tekstowe 9"/>
          <p:cNvSpPr/>
          <p:nvPr/>
        </p:nvSpPr>
        <p:spPr>
          <a:xfrm>
            <a:off x="2195640" y="3213000"/>
            <a:ext cx="6048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Przegrany: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rona, która przegrała konflikt, ponosząc porażkę ze stroną przeciwn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ole tekstowe 10"/>
          <p:cNvSpPr/>
          <p:nvPr/>
        </p:nvSpPr>
        <p:spPr>
          <a:xfrm>
            <a:off x="3059280" y="3995640"/>
            <a:ext cx="5184720" cy="27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aka postawa może wiązać się z następującymi cechami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c21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czucie przegranej (negatywne emocje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c21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ska samoocen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c21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iągłe niezdecydowani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c21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ległoś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13" name="pole tekstowe 12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4" name="Obraz 10" descr="sowa_1-komunikowanie sie.png"/>
            <p:cNvPicPr/>
            <p:nvPr/>
          </p:nvPicPr>
          <p:blipFill>
            <a:blip r:embed="rId4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5076720" y="2852640"/>
            <a:ext cx="3267360" cy="2232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egocjacje</a:t>
            </a:r>
            <a:endParaRPr b="0" lang="en-US" sz="3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1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8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upa 12"/>
          <p:cNvGrpSpPr/>
          <p:nvPr/>
        </p:nvGrpSpPr>
        <p:grpSpPr>
          <a:xfrm>
            <a:off x="468360" y="1197000"/>
            <a:ext cx="7488360" cy="1584360"/>
            <a:chOff x="468360" y="1197000"/>
            <a:chExt cx="7488360" cy="1584360"/>
          </a:xfrm>
        </p:grpSpPr>
        <p:sp>
          <p:nvSpPr>
            <p:cNvPr id="221" name="Prostokąt zaokrąglony 7"/>
            <p:cNvSpPr/>
            <p:nvPr/>
          </p:nvSpPr>
          <p:spPr>
            <a:xfrm>
              <a:off x="468360" y="1197000"/>
              <a:ext cx="7488360" cy="1584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pole tekstowe 6"/>
            <p:cNvSpPr/>
            <p:nvPr/>
          </p:nvSpPr>
          <p:spPr>
            <a:xfrm>
              <a:off x="612360" y="1269000"/>
              <a:ext cx="72723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„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egocjacje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są dwustronnym procesem komunikowania się, którego celem jest osiągnięcie porozumienia, które w pełni satysfakcjonuje obie strony”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ole tekstowe 8"/>
          <p:cNvSpPr/>
          <p:nvPr/>
        </p:nvSpPr>
        <p:spPr>
          <a:xfrm>
            <a:off x="549000" y="3068640"/>
            <a:ext cx="38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niwersalne reguły negocjacyj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ole tekstowe 9"/>
          <p:cNvSpPr/>
          <p:nvPr/>
        </p:nvSpPr>
        <p:spPr>
          <a:xfrm>
            <a:off x="629280" y="3429000"/>
            <a:ext cx="6253560" cy="22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ddziel ludzi od problemu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stal reguły postępowania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298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formułuj problemy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298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centruj się na interesach, a nie na stanowiskach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298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ceniaj pozytywy, nazywaj osiągnięcia podczas negocjacj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ole tekstowe 11"/>
          <p:cNvSpPr/>
          <p:nvPr/>
        </p:nvSpPr>
        <p:spPr>
          <a:xfrm>
            <a:off x="971640" y="587700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Poszukuj rozwiązań korzystnych dla obu stron</a:t>
            </a:r>
            <a:br>
              <a:rPr sz="2200"/>
            </a:br>
            <a:r>
              <a:rPr b="1" lang="pl-PL" sz="22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– zasada: wygrany – wygrany</a:t>
            </a:r>
            <a:r>
              <a:rPr b="1" lang="pl-PL" sz="2200" spc="-1" strike="noStrike">
                <a:solidFill>
                  <a:srgbClr val="4c216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27" name="pole tekstowe 14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Obraz 10" descr="sowa_1-komunikowanie sie.png"/>
            <p:cNvPicPr/>
            <p:nvPr/>
          </p:nvPicPr>
          <p:blipFill>
            <a:blip r:embed="rId8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wiąż problem w kilku krokach:</a:t>
            </a:r>
            <a:endParaRPr b="0" lang="en-US" sz="3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3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Dowolny kształt 11"/>
          <p:cNvSpPr/>
          <p:nvPr/>
        </p:nvSpPr>
        <p:spPr>
          <a:xfrm>
            <a:off x="2008080" y="5003640"/>
            <a:ext cx="6164280" cy="1017720"/>
          </a:xfrm>
          <a:prstGeom prst="pie">
            <a:avLst/>
          </a:prstGeom>
          <a:solidFill>
            <a:srgbClr val="95373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5840" rIns="1283400" tIns="105840" bIns="105840" anchor="ctr">
            <a:no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4. Podejmowanie decyzji –</a:t>
            </a: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 jeżeli podczas negocjacji obie strony wypracowały rozwiązanie, trzeba je jak najszybciej wprowadzić w życ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upa 19"/>
          <p:cNvGrpSpPr/>
          <p:nvPr/>
        </p:nvGrpSpPr>
        <p:grpSpPr>
          <a:xfrm>
            <a:off x="1492200" y="3801960"/>
            <a:ext cx="6392880" cy="1440000"/>
            <a:chOff x="1492200" y="3801960"/>
            <a:chExt cx="6392880" cy="1440000"/>
          </a:xfrm>
        </p:grpSpPr>
        <p:sp>
          <p:nvSpPr>
            <p:cNvPr id="235" name="Dowolny kształt 10"/>
            <p:cNvSpPr/>
            <p:nvPr/>
          </p:nvSpPr>
          <p:spPr>
            <a:xfrm>
              <a:off x="1492200" y="3801960"/>
              <a:ext cx="6392880" cy="1017720"/>
            </a:xfrm>
            <a:prstGeom prst="pie">
              <a:avLst/>
            </a:prstGeom>
            <a:solidFill>
              <a:srgbClr val="537ab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5840" rIns="1275840" tIns="105840" bIns="105840" anchor="ctr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3. Analiza i weryfikacja pomysłów –</a:t>
              </a: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zastanów się, czy któreś rozwiązanie może zostać zastosowane i przyniesie rozwiązanie dobre dla obu str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Dowolny kształt 16"/>
            <p:cNvSpPr/>
            <p:nvPr/>
          </p:nvSpPr>
          <p:spPr>
            <a:xfrm>
              <a:off x="6996240" y="4581360"/>
              <a:ext cx="660240" cy="660600"/>
            </a:xfrm>
            <a:custGeom>
              <a:avLst/>
              <a:gdLst/>
              <a:ahLst/>
              <a:rect l="l" t="t" r="r" b="b"/>
              <a:pathLst>
                <a:path w="661273" h="661273">
                  <a:moveTo>
                    <a:pt x="0" y="363700"/>
                  </a:moveTo>
                  <a:lnTo>
                    <a:pt x="148786" y="363700"/>
                  </a:lnTo>
                  <a:lnTo>
                    <a:pt x="148786" y="0"/>
                  </a:lnTo>
                  <a:lnTo>
                    <a:pt x="512487" y="0"/>
                  </a:lnTo>
                  <a:lnTo>
                    <a:pt x="512487" y="363700"/>
                  </a:lnTo>
                  <a:lnTo>
                    <a:pt x="661273" y="363700"/>
                  </a:lnTo>
                  <a:lnTo>
                    <a:pt x="330637" y="661273"/>
                  </a:lnTo>
                  <a:lnTo>
                    <a:pt x="0" y="363700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86840" rIns="186840" tIns="37800" bIns="20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upa 18"/>
          <p:cNvGrpSpPr/>
          <p:nvPr/>
        </p:nvGrpSpPr>
        <p:grpSpPr>
          <a:xfrm>
            <a:off x="984240" y="2492280"/>
            <a:ext cx="6612120" cy="1548000"/>
            <a:chOff x="984240" y="2492280"/>
            <a:chExt cx="6612120" cy="1548000"/>
          </a:xfrm>
        </p:grpSpPr>
        <p:sp>
          <p:nvSpPr>
            <p:cNvPr id="238" name="Dowolny kształt 9"/>
            <p:cNvSpPr/>
            <p:nvPr/>
          </p:nvSpPr>
          <p:spPr>
            <a:xfrm>
              <a:off x="984240" y="2492280"/>
              <a:ext cx="6612120" cy="1225800"/>
            </a:xfrm>
            <a:prstGeom prst="pie">
              <a:avLst/>
            </a:prstGeom>
            <a:solidFill>
              <a:srgbClr val="5f5ba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5840" rIns="1283400" tIns="105840" bIns="105840" anchor="ctr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2. Generowanie pomysłów i rozwiązań –</a:t>
              </a: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staraj się znaleźć rozwiązanie problemu, szukaj pomysłów. Słuchaj pomysłów drugiej strony. Pamiętaj, nie ma głupich pomysłów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Dowolny kształt 14"/>
            <p:cNvSpPr/>
            <p:nvPr/>
          </p:nvSpPr>
          <p:spPr>
            <a:xfrm>
              <a:off x="6486840" y="3378240"/>
              <a:ext cx="660240" cy="662040"/>
            </a:xfrm>
            <a:custGeom>
              <a:avLst/>
              <a:gdLst/>
              <a:ahLst/>
              <a:rect l="l" t="t" r="r" b="b"/>
              <a:pathLst>
                <a:path w="661273" h="661273">
                  <a:moveTo>
                    <a:pt x="0" y="363700"/>
                  </a:moveTo>
                  <a:lnTo>
                    <a:pt x="148786" y="363700"/>
                  </a:lnTo>
                  <a:lnTo>
                    <a:pt x="148786" y="0"/>
                  </a:lnTo>
                  <a:lnTo>
                    <a:pt x="512487" y="0"/>
                  </a:lnTo>
                  <a:lnTo>
                    <a:pt x="512487" y="363700"/>
                  </a:lnTo>
                  <a:lnTo>
                    <a:pt x="661273" y="363700"/>
                  </a:lnTo>
                  <a:lnTo>
                    <a:pt x="330637" y="661273"/>
                  </a:lnTo>
                  <a:lnTo>
                    <a:pt x="0" y="363700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86840" rIns="186840" tIns="37800" bIns="20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upa 17"/>
          <p:cNvGrpSpPr/>
          <p:nvPr/>
        </p:nvGrpSpPr>
        <p:grpSpPr>
          <a:xfrm>
            <a:off x="468360" y="1397160"/>
            <a:ext cx="6407280" cy="1468440"/>
            <a:chOff x="468360" y="1397160"/>
            <a:chExt cx="6407280" cy="1468440"/>
          </a:xfrm>
        </p:grpSpPr>
        <p:sp>
          <p:nvSpPr>
            <p:cNvPr id="241" name="Dowolny kształt 8"/>
            <p:cNvSpPr/>
            <p:nvPr/>
          </p:nvSpPr>
          <p:spPr>
            <a:xfrm>
              <a:off x="468360" y="1397160"/>
              <a:ext cx="6407280" cy="1017720"/>
            </a:xfrm>
            <a:prstGeom prst="pie">
              <a:avLst/>
            </a:prstGeom>
            <a:solidFill>
              <a:srgbClr val="8064a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5840" rIns="1230120" tIns="105840" bIns="105840" anchor="ctr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1. Rozpoznanie problemów</a:t>
              </a:r>
              <a:r>
                <a:rPr b="1" lang="pl-PL" sz="18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– zorientuj się, czy obie strony negocjacji tak samo widzą proble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Dowolny kształt 12"/>
            <p:cNvSpPr/>
            <p:nvPr/>
          </p:nvSpPr>
          <p:spPr>
            <a:xfrm>
              <a:off x="6156720" y="2205360"/>
              <a:ext cx="660240" cy="660240"/>
            </a:xfrm>
            <a:custGeom>
              <a:avLst/>
              <a:gdLst/>
              <a:ahLst/>
              <a:rect l="l" t="t" r="r" b="b"/>
              <a:pathLst>
                <a:path w="661273" h="661273">
                  <a:moveTo>
                    <a:pt x="0" y="363700"/>
                  </a:moveTo>
                  <a:lnTo>
                    <a:pt x="148786" y="363700"/>
                  </a:lnTo>
                  <a:lnTo>
                    <a:pt x="148786" y="0"/>
                  </a:lnTo>
                  <a:lnTo>
                    <a:pt x="512487" y="0"/>
                  </a:lnTo>
                  <a:lnTo>
                    <a:pt x="512487" y="363700"/>
                  </a:lnTo>
                  <a:lnTo>
                    <a:pt x="661273" y="363700"/>
                  </a:lnTo>
                  <a:lnTo>
                    <a:pt x="330637" y="661273"/>
                  </a:lnTo>
                  <a:lnTo>
                    <a:pt x="0" y="363700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86840" rIns="186840" tIns="37800" bIns="20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44" name="pole tekstowe 18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" name="Obraz 10" descr="sowa_1-komunikowanie sie.png"/>
            <p:cNvPicPr/>
            <p:nvPr/>
          </p:nvPicPr>
          <p:blipFill>
            <a:blip r:embed="rId2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pole tekstowe 7"/>
          <p:cNvSpPr/>
          <p:nvPr/>
        </p:nvSpPr>
        <p:spPr>
          <a:xfrm>
            <a:off x="324000" y="333360"/>
            <a:ext cx="78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procesie negocjacji strony mogą przyjąć skrajne postawy negocjacyjne. Są to tak zwane negocjacje </a:t>
            </a:r>
            <a:r>
              <a:rPr b="1" lang="pl-PL" sz="20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miękkie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i </a:t>
            </a:r>
            <a:r>
              <a:rPr b="1" lang="pl-PL" sz="20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twarde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ole tekstowe 8"/>
          <p:cNvSpPr/>
          <p:nvPr/>
        </p:nvSpPr>
        <p:spPr>
          <a:xfrm>
            <a:off x="2484360" y="1628640"/>
            <a:ext cx="575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MIĘKK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egocjacje polegające na współpracy w przyjaznej atmosferze, skupione na pozytywnych relacj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ole tekstowe 9"/>
          <p:cNvSpPr/>
          <p:nvPr/>
        </p:nvSpPr>
        <p:spPr>
          <a:xfrm>
            <a:off x="468360" y="3716280"/>
            <a:ext cx="611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TWA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egocjacje polegające na rywalizacji, nastawione na osiągnięcie ce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ole tekstowe 10"/>
          <p:cNvSpPr/>
          <p:nvPr/>
        </p:nvSpPr>
        <p:spPr>
          <a:xfrm>
            <a:off x="900000" y="558972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egocjatorzy rzadko stosują tylko twarde lub tylko miękkie sposoby negocjacji.  Aby osiągnąć sukces, należy umiejętnie łączyć oba sty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1836720" cy="1728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3"/>
          <a:stretch/>
        </p:blipFill>
        <p:spPr>
          <a:xfrm>
            <a:off x="6588000" y="3573360"/>
            <a:ext cx="1657440" cy="1727280"/>
          </a:xfrm>
          <a:prstGeom prst="rect">
            <a:avLst/>
          </a:prstGeom>
          <a:ln w="0">
            <a:noFill/>
          </a:ln>
        </p:spPr>
      </p:pic>
      <p:grpSp>
        <p:nvGrpSpPr>
          <p:cNvPr id="255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56" name="pole tekstowe 12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7" name="Obraz 10" descr="sowa_1-komunikowanie sie.png"/>
            <p:cNvPicPr/>
            <p:nvPr/>
          </p:nvPicPr>
          <p:blipFill>
            <a:blip r:embed="rId4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wiązywanie konfliktów – zakończenie</a:t>
            </a:r>
            <a:endParaRPr b="0" lang="en-US" sz="3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5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6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ole tekstowe 6"/>
          <p:cNvSpPr/>
          <p:nvPr/>
        </p:nvSpPr>
        <p:spPr>
          <a:xfrm>
            <a:off x="611280" y="1268280"/>
            <a:ext cx="72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flikt ma swój wielki potencjał. Kiedy boisz się konfliktu lub traktujesz go jak wojnę, tracisz możliwość poznania drugiej strony oraz wyrażania własnych potrzeb i interesów. Tracisz szansę na satysfakcjonujące kontakty z drugim człowieki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upa 11"/>
          <p:cNvGrpSpPr/>
          <p:nvPr/>
        </p:nvGrpSpPr>
        <p:grpSpPr>
          <a:xfrm>
            <a:off x="684360" y="3500280"/>
            <a:ext cx="7127640" cy="3008520"/>
            <a:chOff x="684360" y="3500280"/>
            <a:chExt cx="7127640" cy="3008520"/>
          </a:xfrm>
        </p:grpSpPr>
        <p:sp>
          <p:nvSpPr>
            <p:cNvPr id="264" name="Prostokąt zaokrąglony 8"/>
            <p:cNvSpPr/>
            <p:nvPr/>
          </p:nvSpPr>
          <p:spPr>
            <a:xfrm>
              <a:off x="684360" y="3500280"/>
              <a:ext cx="7127640" cy="1368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pole tekstowe 7"/>
            <p:cNvSpPr/>
            <p:nvPr/>
          </p:nvSpPr>
          <p:spPr>
            <a:xfrm>
              <a:off x="828360" y="3644280"/>
              <a:ext cx="6839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To nie konflikt jest źródłem nieporozumień i walki między ludźmi, lecz sposób jego rozstrzygani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Picture 3" descr=""/>
            <p:cNvPicPr/>
            <p:nvPr/>
          </p:nvPicPr>
          <p:blipFill>
            <a:blip r:embed="rId2"/>
            <a:stretch/>
          </p:blipFill>
          <p:spPr>
            <a:xfrm>
              <a:off x="3060000" y="4796640"/>
              <a:ext cx="2554200" cy="171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68" name="pole tekstowe 12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stęp do rozwiązywania konfliktów</a:t>
            </a:r>
            <a:endParaRPr b="0" lang="en-US" sz="3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5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5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ole tekstowe 9"/>
          <p:cNvSpPr/>
          <p:nvPr/>
        </p:nvSpPr>
        <p:spPr>
          <a:xfrm>
            <a:off x="468360" y="1268280"/>
            <a:ext cx="532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flikt jest naturalnym elementem kontaktów międzyludzkich, dlatego sam w sobie nie powinien być oceniany zawsze  negatywn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ole tekstowe 10"/>
          <p:cNvSpPr/>
          <p:nvPr/>
        </p:nvSpPr>
        <p:spPr>
          <a:xfrm>
            <a:off x="2700360" y="2492280"/>
            <a:ext cx="552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asami konflikt może mieć bardzo pozytywny skutek. Może mieć też konstruktywny charakter, ponieważ pobudza do twórczego myśle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ole tekstowe 11"/>
          <p:cNvSpPr/>
          <p:nvPr/>
        </p:nvSpPr>
        <p:spPr>
          <a:xfrm>
            <a:off x="395280" y="3716280"/>
            <a:ext cx="38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twarte i racjonalne podejście do konfliktu może doprowadzić do zbliżenia stanowisk i uzyskania satysfakcji płynącej ze współpra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4356000" y="4149720"/>
            <a:ext cx="3921120" cy="244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64" name="pole tekstowe 13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ytuł 1"/>
          <p:cNvSpPr/>
          <p:nvPr/>
        </p:nvSpPr>
        <p:spPr>
          <a:xfrm>
            <a:off x="324000" y="260280"/>
            <a:ext cx="784836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Literatu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3"/>
          <p:cNvSpPr/>
          <p:nvPr/>
        </p:nvSpPr>
        <p:spPr>
          <a:xfrm>
            <a:off x="755640" y="1413000"/>
            <a:ext cx="6696000" cy="4854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W co grają ludzie,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Eric Ber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Umiejętności negocjacyjn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Michał Dec, Małgorzata Pietrusia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Docenić konflikt,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Jerzy Gut, Wojciech Ham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Dochodząc do zgody. Przekształcanie konfliktów w domu, w pracy i na świec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William L . Urly.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Dochodząc do TAK. Negocjowanie bez poddawania się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Roger Fisher, William L. Ury, Bruce Pa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Odchodząc od NIE. Negocjowanie od konfrontacji do kooperacj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William L. U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Konflikt niejedno ma imię (1). Jak reagować  w przypadku nieporozumień w firm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Wiesław Gonciarski.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Sztuka negocjacj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Gerard Nierenber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73" name="pole tekstowe 5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Obraz 10" descr="sowa_1-komunikowanie sie.png"/>
            <p:cNvPicPr/>
            <p:nvPr/>
          </p:nvPicPr>
          <p:blipFill>
            <a:blip r:embed="rId1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by zdefiniować konflikt, należy powiedzieć, że:</a:t>
            </a:r>
            <a:endParaRPr b="0" lang="en-US" sz="27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6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6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upa 18"/>
          <p:cNvGrpSpPr/>
          <p:nvPr/>
        </p:nvGrpSpPr>
        <p:grpSpPr>
          <a:xfrm>
            <a:off x="1332000" y="1413000"/>
            <a:ext cx="5616360" cy="2520720"/>
            <a:chOff x="1332000" y="1413000"/>
            <a:chExt cx="5616360" cy="2520720"/>
          </a:xfrm>
        </p:grpSpPr>
        <p:sp>
          <p:nvSpPr>
            <p:cNvPr id="71" name="Prostokąt zaokrąglony 14"/>
            <p:cNvSpPr/>
            <p:nvPr/>
          </p:nvSpPr>
          <p:spPr>
            <a:xfrm>
              <a:off x="1332000" y="1413000"/>
              <a:ext cx="5616360" cy="252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pole tekstowe 12"/>
            <p:cNvSpPr/>
            <p:nvPr/>
          </p:nvSpPr>
          <p:spPr>
            <a:xfrm>
              <a:off x="1548000" y="1413000"/>
              <a:ext cx="518436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„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Konflikt to spór dwóch lub więcej osób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któremu towarzyszy napięcie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emocje, niezgoda i różnica stanowisk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 wyniku czego wzajemne relacje str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ulegają popsuciu lub przerwaniu”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upa 19"/>
          <p:cNvGrpSpPr/>
          <p:nvPr/>
        </p:nvGrpSpPr>
        <p:grpSpPr>
          <a:xfrm>
            <a:off x="971640" y="4437000"/>
            <a:ext cx="6480000" cy="1368360"/>
            <a:chOff x="971640" y="4437000"/>
            <a:chExt cx="6480000" cy="1368360"/>
          </a:xfrm>
        </p:grpSpPr>
        <p:sp>
          <p:nvSpPr>
            <p:cNvPr id="74" name="Prostokąt zaokrąglony 17"/>
            <p:cNvSpPr/>
            <p:nvPr/>
          </p:nvSpPr>
          <p:spPr>
            <a:xfrm>
              <a:off x="971640" y="4437000"/>
              <a:ext cx="6480000" cy="1368360"/>
            </a:xfrm>
            <a:prstGeom prst="roundRect">
              <a:avLst>
                <a:gd name="adj" fmla="val 16667"/>
              </a:avLst>
            </a:prstGeom>
            <a:solidFill>
              <a:srgbClr val="8064a2"/>
            </a:solidFill>
            <a:ln w="25560">
              <a:solidFill>
                <a:srgbClr val="5c47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pole tekstowe 16"/>
            <p:cNvSpPr/>
            <p:nvPr/>
          </p:nvSpPr>
          <p:spPr>
            <a:xfrm>
              <a:off x="1043640" y="4581000"/>
              <a:ext cx="6264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„</a:t>
              </a: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Konflikt jest kolizją lub niezgodą, sporem lub kłótnią, bitwą lub walką. Często określa się go jako sprzeczność dążeń, niezgodność interesów”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77" name="pole tekstowe 13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Obraz 10" descr="sowa_1-komunikowanie sie.png"/>
            <p:cNvPicPr/>
            <p:nvPr/>
          </p:nvPicPr>
          <p:blipFill>
            <a:blip r:embed="rId2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by doszło do konfliktu, muszą zaistnieć 3 warunki:</a:t>
            </a:r>
            <a:endParaRPr b="0" lang="en-US" sz="25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8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8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upa 16"/>
          <p:cNvGrpSpPr/>
          <p:nvPr/>
        </p:nvGrpSpPr>
        <p:grpSpPr>
          <a:xfrm>
            <a:off x="684360" y="1413000"/>
            <a:ext cx="6912000" cy="1190520"/>
            <a:chOff x="684360" y="1413000"/>
            <a:chExt cx="6912000" cy="1190520"/>
          </a:xfrm>
        </p:grpSpPr>
        <p:sp>
          <p:nvSpPr>
            <p:cNvPr id="84" name="Dowolny kształt 8"/>
            <p:cNvSpPr/>
            <p:nvPr/>
          </p:nvSpPr>
          <p:spPr>
            <a:xfrm>
              <a:off x="1911240" y="1413000"/>
              <a:ext cx="5685120" cy="11905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2240" rIns="14220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stnieją wyodrębnione strony konfliktu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(o sprecyzowanych dążeniach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Prostokąt 9"/>
            <p:cNvSpPr/>
            <p:nvPr/>
          </p:nvSpPr>
          <p:spPr>
            <a:xfrm>
              <a:off x="684360" y="1413000"/>
              <a:ext cx="1822320" cy="11905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upa 17"/>
          <p:cNvGrpSpPr/>
          <p:nvPr/>
        </p:nvGrpSpPr>
        <p:grpSpPr>
          <a:xfrm>
            <a:off x="684360" y="2957400"/>
            <a:ext cx="6912000" cy="1190880"/>
            <a:chOff x="684360" y="2957400"/>
            <a:chExt cx="6912000" cy="1190880"/>
          </a:xfrm>
        </p:grpSpPr>
        <p:sp>
          <p:nvSpPr>
            <p:cNvPr id="87" name="Dowolny kształt 10"/>
            <p:cNvSpPr/>
            <p:nvPr/>
          </p:nvSpPr>
          <p:spPr>
            <a:xfrm>
              <a:off x="1911240" y="2957400"/>
              <a:ext cx="5685120" cy="11908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2240" rIns="14220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stnieje współzależność społeczna między stronam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Prostokąt 11"/>
            <p:cNvSpPr/>
            <p:nvPr/>
          </p:nvSpPr>
          <p:spPr>
            <a:xfrm>
              <a:off x="684360" y="2957400"/>
              <a:ext cx="1822320" cy="1190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upa 18"/>
          <p:cNvGrpSpPr/>
          <p:nvPr/>
        </p:nvGrpSpPr>
        <p:grpSpPr>
          <a:xfrm>
            <a:off x="684360" y="4502160"/>
            <a:ext cx="6912000" cy="1190520"/>
            <a:chOff x="684360" y="4502160"/>
            <a:chExt cx="6912000" cy="1190520"/>
          </a:xfrm>
        </p:grpSpPr>
        <p:sp>
          <p:nvSpPr>
            <p:cNvPr id="90" name="Dowolny kształt 12"/>
            <p:cNvSpPr/>
            <p:nvPr/>
          </p:nvSpPr>
          <p:spPr>
            <a:xfrm>
              <a:off x="1911240" y="4502160"/>
              <a:ext cx="5685120" cy="11905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2240" rIns="14220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trony nie pomagają sobie w osiągnięciu celów, stanowią przeszkodę lub blokują realizację dąże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Prostokąt 14"/>
            <p:cNvSpPr/>
            <p:nvPr/>
          </p:nvSpPr>
          <p:spPr>
            <a:xfrm>
              <a:off x="684360" y="4502160"/>
              <a:ext cx="1822320" cy="11905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93" name="pole tekstowe 17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Obraz 10" descr="sowa_1-komunikowanie sie.png"/>
            <p:cNvPicPr/>
            <p:nvPr/>
          </p:nvPicPr>
          <p:blipFill>
            <a:blip r:embed="rId5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705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flikty mogą zachodzić na różnych poziomach </a:t>
            </a:r>
            <a:br>
              <a:rPr sz="2600"/>
            </a:br>
            <a:r>
              <a:rPr b="1" lang="pl-PL" sz="26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życia społecznego:</a:t>
            </a:r>
            <a:endParaRPr b="0" lang="en-US" sz="26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9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9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upa 17"/>
          <p:cNvGrpSpPr/>
          <p:nvPr/>
        </p:nvGrpSpPr>
        <p:grpSpPr>
          <a:xfrm>
            <a:off x="901800" y="1700280"/>
            <a:ext cx="2136600" cy="3992400"/>
            <a:chOff x="901800" y="1700280"/>
            <a:chExt cx="2136600" cy="3992400"/>
          </a:xfrm>
        </p:grpSpPr>
        <p:sp>
          <p:nvSpPr>
            <p:cNvPr id="100" name="Prostokąt zaokrąglony 9"/>
            <p:cNvSpPr/>
            <p:nvPr/>
          </p:nvSpPr>
          <p:spPr>
            <a:xfrm>
              <a:off x="901800" y="1700280"/>
              <a:ext cx="2136600" cy="1512720"/>
            </a:xfrm>
            <a:prstGeom prst="roundRect">
              <a:avLst>
                <a:gd name="adj" fmla="val 10000"/>
              </a:avLst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Dowolny kształt 10"/>
            <p:cNvSpPr/>
            <p:nvPr/>
          </p:nvSpPr>
          <p:spPr>
            <a:xfrm>
              <a:off x="901800" y="3213000"/>
              <a:ext cx="2136600" cy="24796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43360" rIns="243360" tIns="177840" bIns="243360" anchor="t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konflikt jednostki </a:t>
              </a:r>
              <a:br>
                <a:rPr sz="2500"/>
              </a:b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 jednostką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upa 18"/>
          <p:cNvGrpSpPr/>
          <p:nvPr/>
        </p:nvGrpSpPr>
        <p:grpSpPr>
          <a:xfrm>
            <a:off x="3251160" y="1700280"/>
            <a:ext cx="2136960" cy="3992400"/>
            <a:chOff x="3251160" y="1700280"/>
            <a:chExt cx="2136960" cy="3992400"/>
          </a:xfrm>
        </p:grpSpPr>
        <p:sp>
          <p:nvSpPr>
            <p:cNvPr id="103" name="Prostokąt zaokrąglony 11"/>
            <p:cNvSpPr/>
            <p:nvPr/>
          </p:nvSpPr>
          <p:spPr>
            <a:xfrm>
              <a:off x="3251160" y="1700280"/>
              <a:ext cx="2136960" cy="1512720"/>
            </a:xfrm>
            <a:prstGeom prst="roundRect">
              <a:avLst>
                <a:gd name="adj" fmla="val 10000"/>
              </a:avLst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Dowolny kształt 12"/>
            <p:cNvSpPr/>
            <p:nvPr/>
          </p:nvSpPr>
          <p:spPr>
            <a:xfrm>
              <a:off x="3251160" y="3213000"/>
              <a:ext cx="2136960" cy="24796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43360" rIns="243360" tIns="177840" bIns="243360" anchor="t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konflikt grupy </a:t>
              </a:r>
              <a:br>
                <a:rPr sz="2500"/>
              </a:b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 grupą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upa 19"/>
          <p:cNvGrpSpPr/>
          <p:nvPr/>
        </p:nvGrpSpPr>
        <p:grpSpPr>
          <a:xfrm>
            <a:off x="5602320" y="1700280"/>
            <a:ext cx="2135160" cy="3992400"/>
            <a:chOff x="5602320" y="1700280"/>
            <a:chExt cx="2135160" cy="3992400"/>
          </a:xfrm>
        </p:grpSpPr>
        <p:sp>
          <p:nvSpPr>
            <p:cNvPr id="106" name="Prostokąt zaokrąglony 14"/>
            <p:cNvSpPr/>
            <p:nvPr/>
          </p:nvSpPr>
          <p:spPr>
            <a:xfrm>
              <a:off x="5602320" y="1700280"/>
              <a:ext cx="2135160" cy="1512720"/>
            </a:xfrm>
            <a:prstGeom prst="roundRect">
              <a:avLst>
                <a:gd name="adj" fmla="val 10000"/>
              </a:avLst>
            </a:prstGeom>
            <a:blipFill rotWithShape="0">
              <a:blip r:embed="rId4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Dowolny kształt 16"/>
            <p:cNvSpPr/>
            <p:nvPr/>
          </p:nvSpPr>
          <p:spPr>
            <a:xfrm>
              <a:off x="5602320" y="3213000"/>
              <a:ext cx="2135160" cy="24796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43360" rIns="243360" tIns="177840" bIns="243360" anchor="t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konflikt jednostki </a:t>
              </a:r>
              <a:br>
                <a:rPr sz="2500"/>
              </a:br>
              <a:r>
                <a:rPr b="1" lang="pl-PL" sz="25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 grupą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09" name="pole tekstowe 18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Obraz 10" descr="sowa_1-komunikowanie sie.png"/>
            <p:cNvPicPr/>
            <p:nvPr/>
          </p:nvPicPr>
          <p:blipFill>
            <a:blip r:embed="rId5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4772160" cy="4619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yczyny konfliktów</a:t>
            </a:r>
            <a:endParaRPr b="0" lang="en-US" sz="3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1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4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ole tekstowe 6"/>
          <p:cNvSpPr/>
          <p:nvPr/>
        </p:nvSpPr>
        <p:spPr>
          <a:xfrm>
            <a:off x="468360" y="1413000"/>
            <a:ext cx="755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Konflikt interesów 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najczęściej dochodzi do niego, gdy jedna strona chce osiągnąć jakiś cel kosztem drugiej stro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ole tekstowe 7"/>
          <p:cNvSpPr/>
          <p:nvPr/>
        </p:nvSpPr>
        <p:spPr>
          <a:xfrm>
            <a:off x="468360" y="2708280"/>
            <a:ext cx="7711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nteresy rzeczowe 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gdy dochodzi do konfliktu z powodu jakiejś rzecz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ole tekstowe 8"/>
          <p:cNvSpPr/>
          <p:nvPr/>
        </p:nvSpPr>
        <p:spPr>
          <a:xfrm>
            <a:off x="468360" y="3645000"/>
            <a:ext cx="76327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nteresy proceduralne 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gdy dochodzi do konfliktu z powodu jakiejś procedury, zwyczaju lub powszechnie przyjętego sposobu postępowa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ole tekstowe 9"/>
          <p:cNvSpPr/>
          <p:nvPr/>
        </p:nvSpPr>
        <p:spPr>
          <a:xfrm>
            <a:off x="468360" y="4653000"/>
            <a:ext cx="763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nteresy psychologiczne 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gdy dochodzi do konfliktu, ponieważ jedna grupa lub jednostka odczuwa, że jest traktowana niesprawiedliw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21" name="pole tekstowe 12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ole tekstowe 7"/>
          <p:cNvSpPr/>
          <p:nvPr/>
        </p:nvSpPr>
        <p:spPr>
          <a:xfrm>
            <a:off x="324000" y="476280"/>
            <a:ext cx="792000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Konflikt relacji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chodzi, gdy relacje jednostki kolidują z relacjami innej jednostki lub grup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ole tekstowe 8"/>
          <p:cNvSpPr/>
          <p:nvPr/>
        </p:nvSpPr>
        <p:spPr>
          <a:xfrm>
            <a:off x="468360" y="2276640"/>
            <a:ext cx="453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wodami takich konfliktów zwykle s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łędne postrzegani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ła komunikacj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ilne emocj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ereotyp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3780000" y="3284640"/>
            <a:ext cx="4362120" cy="2504880"/>
          </a:xfrm>
          <a:prstGeom prst="rect">
            <a:avLst/>
          </a:prstGeom>
          <a:ln w="0">
            <a:noFill/>
          </a:ln>
        </p:spPr>
      </p:pic>
      <p:grpSp>
        <p:nvGrpSpPr>
          <p:cNvPr id="129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30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3321000" cy="4032360"/>
          </a:xfrm>
          <a:prstGeom prst="rect">
            <a:avLst/>
          </a:prstGeom>
          <a:ln w="0">
            <a:noFill/>
          </a:ln>
        </p:spPr>
      </p:pic>
      <p:sp>
        <p:nvSpPr>
          <p:cNvPr id="136" name="pole tekstowe 8"/>
          <p:cNvSpPr/>
          <p:nvPr/>
        </p:nvSpPr>
        <p:spPr>
          <a:xfrm>
            <a:off x="3635280" y="2924280"/>
            <a:ext cx="4498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wodami takich konfliktów zwykle s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rak informacj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łędne lub różne rozumienie dany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óżne sposoby zbierania da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ole tekstowe 7"/>
          <p:cNvSpPr/>
          <p:nvPr/>
        </p:nvSpPr>
        <p:spPr>
          <a:xfrm>
            <a:off x="468360" y="404640"/>
            <a:ext cx="755964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Konflikt danych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chodzi, gdy strony konfliktu mają różne informacje i na ich podstawie podejmują decyzje na temat podejmowanych działa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39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ole tekstowe 7"/>
          <p:cNvSpPr/>
          <p:nvPr/>
        </p:nvSpPr>
        <p:spPr>
          <a:xfrm>
            <a:off x="468360" y="549360"/>
            <a:ext cx="770400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4c216d"/>
                </a:solidFill>
                <a:latin typeface="Times New Roman CE"/>
                <a:ea typeface="Times New Roman CE"/>
              </a:rPr>
              <a:t>Konflikt wartości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chodzi, gdy strony konfliktu mają różne,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często przeciwstawne wartości, przekonania, zwyczaje, kulturę lub środowisko, z którego się wywodz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ole tekstowe 8"/>
          <p:cNvSpPr/>
          <p:nvPr/>
        </p:nvSpPr>
        <p:spPr>
          <a:xfrm>
            <a:off x="627480" y="2924280"/>
            <a:ext cx="521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wodami takich konfliktów zwykle s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óżnice religij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artości związane z zachowaniem własnego j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c2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artości dnia codzienn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6084720" y="2060640"/>
            <a:ext cx="1872000" cy="4386240"/>
          </a:xfrm>
          <a:prstGeom prst="rect">
            <a:avLst/>
          </a:prstGeom>
          <a:ln w="0">
            <a:noFill/>
          </a:ln>
        </p:spPr>
      </p:pic>
      <p:grpSp>
        <p:nvGrpSpPr>
          <p:cNvPr id="147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48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5:57:06Z</dcterms:created>
  <dc:creator>x</dc:creator>
  <dc:description/>
  <dc:language>en-US</dc:language>
  <cp:lastModifiedBy>Marta</cp:lastModifiedBy>
  <dcterms:modified xsi:type="dcterms:W3CDTF">2013-01-31T14:46:34Z</dcterms:modified>
  <cp:revision>43</cp:revision>
  <dc:subject/>
  <dc:title>Slajd 1</dc:title>
</cp:coreProperties>
</file>